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470-09F4-4AED-90BA-141AEE93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7B6-535A-4AA5-ACA0-C8CC0B6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9EF-989A-408E-8FD1-4649C434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F38-F23D-4183-9EFA-9C4CC113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8F1-EC81-4A03-B9EF-CEB8F9F3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A04-42C5-4CF9-B56A-387ACA1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6BCC-DA99-44FB-849B-207CC4F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409F-904E-40F1-9382-CC07C8A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1262-E6B0-4AD9-A7C2-9C23656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27D8-3A22-405A-BFEB-F78A6D9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09B-9598-47B9-BAFF-A308526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17D-D186-4844-B2E4-CAAAC24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1077-ACC5-4545-B092-15FDB83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310-ACF3-4A88-AAA3-A194BE6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519-1561-45AB-9A53-08C12444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416-0B45-4F9A-AB00-E6E3820C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2BC3-DF5C-437C-A73B-B7A1EEAA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D5F-18BB-4EC5-8CF3-5A62E6C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C2F-0451-490A-A4C0-D88B00A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8E4-B76A-4A82-9A5E-AFC6C91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7E3-6A1D-4EDA-BCF8-98F5BC8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449-7C1B-41CA-806B-A5542E9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AF2-D10E-487F-AB74-EF69B7A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0BE-2F08-4E64-A56F-7510662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4A0-756C-4AEE-B7F2-4629358A9047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740-43BE-4773-B713-F924F04D63EA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6734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tages 3 &amp; 4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ian Shi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d Cho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won Cha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elta(∂) Wa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uring this process you fall into deep sleep. Your brain emits large, slow delta waves. These stages together are called slow-wave-sleep. They last for about 30 minutes during which you are hard to awaken. It’s the time when children in 3~12 years old have an episode of wetting their bed or sleepwalking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-8153280" y="0"/>
            <a:ext cx="593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4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45:20Z</dcterms:created>
  <dc:creator>Brian Shin</dc:creator>
  <dc:description/>
  <dc:language>en-US</dc:language>
  <cp:lastModifiedBy>Brian Shin</cp:lastModifiedBy>
  <dcterms:modified xsi:type="dcterms:W3CDTF">2008-10-06T04:04:40Z</dcterms:modified>
  <cp:revision>1</cp:revision>
  <dc:subject/>
  <dc:title>Stages 3 &amp; 4</dc:title>
</cp:coreProperties>
</file>